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5B7-1EBF-453D-8A68-4118563E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523-7ADB-4C13-974D-027CC4B0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406A-C969-4173-9DBC-0CD0D127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C69-F7FA-4766-9083-28CB3906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FABF-9ADD-4C36-80C0-565FDD95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D0A-A5E9-4CC1-8C5E-521D04DF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F808-72C3-4B4D-9E30-FD4BD2B0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C20-BACE-45FC-BA24-6A4D4BB8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264-99C0-4BAF-8253-C0676BDE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37B-63B2-45D1-8EBA-DCFB344E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DD3-E74D-434A-B069-B7BED9D1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8D2-F54A-4CD8-BA5F-4B5B8F72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D4C7-08DC-49A1-8290-E09306266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5715000"/>
            <a:ext cx="571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eam Alpha | Patient Room of the Future | Oct. 11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3716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pplying General Design Solutions to Hughes Spald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ayfinding + Infection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1066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Principle: Infection Contr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1905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Cochin"/>
              </a:rPr>
              <a:t>Implement solutions that result in very low infection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914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447920"/>
            <a:ext cx="754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981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200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Key Points in the Evidenc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5120" y="153828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ochin"/>
              </a:rPr>
              <a:t>Implement solutions that result in very low infectio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64440" y="2590920"/>
            <a:ext cx="73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  <a:ea typeface="Cochin"/>
              </a:rPr>
              <a:t>Poor hand washing practices lead to higher nosocomial inf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886200"/>
            <a:ext cx="7239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ochi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entury Gothic"/>
                <a:ea typeface="Cochin"/>
              </a:rPr>
              <a:t>Hand washing compliance rates are typically 15-3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0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  <a:ea typeface="Cochi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entury Gothic"/>
                <a:ea typeface="Cochin"/>
              </a:rPr>
              <a:t>There are 2 million nosocomial infections per year in the 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914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447920"/>
            <a:ext cx="754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1981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3200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Key Points in the Evidenc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5120" y="152388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ochin"/>
              </a:rPr>
              <a:t>Implement solutions that result in very low infectio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67600" y="2514600"/>
            <a:ext cx="75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cc5f"/>
                </a:solidFill>
                <a:latin typeface="Century Gothic"/>
                <a:ea typeface="Cochin"/>
              </a:rPr>
              <a:t>Inconvenient sink locations and forgetfulness are barriers to pro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cc5f"/>
                </a:solidFill>
                <a:latin typeface="Century Gothic"/>
                <a:ea typeface="Cochin"/>
              </a:rPr>
              <a:t>hand washing behav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3886200"/>
            <a:ext cx="716292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buClr>
                <a:srgbClr val="1fcc5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cc5f"/>
                </a:solidFill>
                <a:latin typeface="Century Gothic"/>
                <a:ea typeface="Cochin"/>
              </a:rPr>
              <a:t> </a:t>
            </a:r>
            <a:r>
              <a:rPr b="0" lang="en-US" sz="1800" spc="-1" strike="noStrike">
                <a:solidFill>
                  <a:srgbClr val="1fcc5f"/>
                </a:solidFill>
                <a:latin typeface="Century Gothic"/>
                <a:ea typeface="Cochin"/>
              </a:rPr>
              <a:t>Hand washing compliance rates are typically 15-3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0"/>
              </a:spcBef>
              <a:buClr>
                <a:srgbClr val="1fcc5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cc5f"/>
                </a:solidFill>
                <a:latin typeface="Century Gothic"/>
                <a:ea typeface="Cochin"/>
              </a:rPr>
              <a:t> </a:t>
            </a:r>
            <a:r>
              <a:rPr b="0" lang="en-US" sz="1800" spc="-1" strike="noStrike">
                <a:solidFill>
                  <a:srgbClr val="1fcc5f"/>
                </a:solidFill>
                <a:latin typeface="Century Gothic"/>
                <a:ea typeface="Cochin"/>
              </a:rPr>
              <a:t>Alcohol-based hand-cleaners at bedside increase hand washing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1066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posed Infection Control Solu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905120"/>
            <a:ext cx="83059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080"/>
                </a:solidFill>
                <a:uFillTx/>
                <a:latin typeface="Century Gothic"/>
              </a:rPr>
              <a:t>“</a:t>
            </a:r>
            <a:r>
              <a:rPr b="1" lang="en-US" sz="2800" spc="-1" strike="noStrike" u="sng">
                <a:solidFill>
                  <a:srgbClr val="004080"/>
                </a:solidFill>
                <a:uFillTx/>
                <a:latin typeface="Century Gothic"/>
              </a:rPr>
              <a:t>Clean Hands” RFID Track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RFID-based compliance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Detects doctor’s entrance into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Alerts doctor if Patient Zone entered without  hand wa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Records when doctor washes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1066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posed Infection Control Solu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1905120"/>
            <a:ext cx="83059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080"/>
                </a:solidFill>
                <a:uFillTx/>
                <a:latin typeface="Century Gothic"/>
              </a:rPr>
              <a:t>“</a:t>
            </a:r>
            <a:r>
              <a:rPr b="1" lang="en-US" sz="2800" spc="-1" strike="noStrike" u="sng">
                <a:solidFill>
                  <a:srgbClr val="004080"/>
                </a:solidFill>
                <a:uFillTx/>
                <a:latin typeface="Century Gothic"/>
              </a:rPr>
              <a:t>Color me Clean” Antibacterial Gel/Fo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4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438280"/>
            <a:ext cx="35816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Hand cleaner that changes colors when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Similar to Coppertone Kids sun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Provides visual evidence of sanitiz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343400" y="2666880"/>
            <a:ext cx="395748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2193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ummary of Proposed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209680"/>
            <a:ext cx="8077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‘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tep-by-Step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1fcc5f"/>
                </a:solidFill>
                <a:latin typeface="Century Gothic"/>
              </a:rPr>
              <a:t>‘</a:t>
            </a:r>
            <a:r>
              <a:rPr b="0" lang="en-US" sz="2800" spc="-1" strike="noStrike">
                <a:solidFill>
                  <a:srgbClr val="1fcc5f"/>
                </a:solidFill>
                <a:latin typeface="Century Gothic"/>
              </a:rPr>
              <a:t>Clean Hands’ RFID-track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800040"/>
                </a:solidFill>
                <a:latin typeface="Century Gothic"/>
              </a:rPr>
              <a:t>‘</a:t>
            </a:r>
            <a:r>
              <a:rPr b="0" lang="en-US" sz="2800" spc="-1" strike="noStrike">
                <a:solidFill>
                  <a:srgbClr val="800040"/>
                </a:solidFill>
                <a:latin typeface="Century Gothic"/>
              </a:rPr>
              <a:t>Color me Clean’ Antibacterial Gel/Fo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447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066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Principle: Wayfin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sign the hospital environment and wayfinding processes in order to reduce stress and anxiety for patients, visitors, and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914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447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sign the hospital environment and wayfinding processes in order to reduce stress and anxiety for patients, visitors, and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23623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3581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Key Points in the Evidenc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895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Patient anxiety increases because lack of understanding and control over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4114800"/>
            <a:ext cx="77724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As floor plan complexity increases, wayfinding performance de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The addition of signage results in 13% increased rate of travel and 62% decrease in backtrac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As tasks become more difficult, your STM performance deterio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914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447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sign the hospital environment and wayfinding processes in order to reduce stress and anxiety for patients, visitors, and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23623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3581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Key Points in the Evidenc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29718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cc5f"/>
                </a:solidFill>
                <a:latin typeface="Century Gothic"/>
              </a:rPr>
              <a:t>Ineffective wayfinding costs hospitals a significant amount of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26708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1fcc5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cc5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1fcc5f"/>
                </a:solidFill>
                <a:latin typeface="Century Gothic"/>
              </a:rPr>
              <a:t>Annual cost of wayfinding is $448/bed/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cc5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cc5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1fcc5f"/>
                </a:solidFill>
                <a:latin typeface="Century Gothic"/>
              </a:rPr>
              <a:t>4,500 non-designated staff hours (2 F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914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447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sign the hospital environment and wayfinding processes in order to reduce stress and anxiety for patients, visitors, and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3623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581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Key Points in the Evidenc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9862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Hospitals are not designed for the size or cognitive ability of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417204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Children orient themselves at a “start” 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Younger children have problems estimating direction and  learning a specific ro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Graphical signage produces the greatest rate of tra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066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posed Wayfinding Solu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905120"/>
            <a:ext cx="754380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080"/>
                </a:solidFill>
                <a:uFillTx/>
                <a:latin typeface="Century Gothic"/>
              </a:rPr>
              <a:t>Step-by-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etting to the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arta: walking maps, shuttle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ar: large, uniform, graphical signage (for parking + hospital ent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n foot: colored footprints that lead to ent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066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posed Wayfinding Solu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905120"/>
            <a:ext cx="365760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ntering the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3D hospital mock-up with light-up directions and ability to print    step-by-step customized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388620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066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posed Wayfinding Solu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828800"/>
            <a:ext cx="75438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roughout the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Interior Layout an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andmark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(ex: things that everyone can identify--large, physical stru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olors/theme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to help differentiat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eiling/floor design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that lead you in the correct directions (subtly, but clearl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066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posed Wayfinding Solu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54380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roughout the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5 components of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ignag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Graphica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- for kids + no language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extual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- LED signs + clear and concise + multiple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Uniform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- Consistent layout +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Uses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andmarks and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Placemen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- for both adult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1:22Z</dcterms:created>
  <dc:creator>Diane Dutcher</dc:creator>
  <dc:description/>
  <dc:language>en-US</dc:language>
  <cp:lastModifiedBy>Diane Dutcher</cp:lastModifiedBy>
  <dcterms:modified xsi:type="dcterms:W3CDTF">2007-10-11T20:11:03Z</dcterms:modified>
  <cp:revision>58</cp:revision>
  <dc:subject/>
  <dc:title>PowerPoint Presentation</dc:title>
</cp:coreProperties>
</file>